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CE74-0783-4979-BE3F-0E31C9B0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4890-DC95-4DFC-A02D-80F7605E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34C6-A403-4AF4-9BB4-076B7C11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6C5A-ECC2-44D0-ACEF-B854C77D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C427-2345-4D8D-92B2-032CDE52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C8A9-1279-4569-B3CC-7DA20657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E80F-B150-430A-9F14-0236A9A5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D0085-E9E0-40B5-AABB-40A3388BD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057C-2D7C-4993-B60F-44AC0808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C3CFE-9F91-4349-9BB9-BFB709471E7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48AC5-CC68-47D0-BD3C-27E98692824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860B2-5846-4F83-965F-62E465DDDC2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E6196-52DA-491E-B83F-C2122BC93E8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35A19-EEF0-48EB-A499-432FC1D0EF7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998D2-524F-425C-A481-AE84FFF353B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071F3-0D7E-468A-B59A-51B849D179A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63DFE-5FB9-4B37-BB04-1C9288B065F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D68CD-771D-489F-9DE8-FE182751791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CC96F-1924-49CB-9D9D-D16426248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2F1C-26C1-4BCD-A13B-520DA4EF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D98D8-D8CD-4E44-95AC-1E7AB6BCD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8360-A12D-4D7C-8482-1D827E80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C5BB-DADB-48E1-9F93-4A62A860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733C-CD96-4494-9284-060A5A5B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72CD-0CEC-431B-B043-A8EA8194509F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6"/>
          <p:cNvSpPr/>
          <p:nvPr/>
        </p:nvSpPr>
        <p:spPr>
          <a:xfrm>
            <a:off x="0" y="620640"/>
            <a:ext cx="9144000" cy="2398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모서리가 둥근 직사각형 5"/>
          <p:cNvSpPr/>
          <p:nvPr/>
        </p:nvSpPr>
        <p:spPr>
          <a:xfrm>
            <a:off x="318960" y="404640"/>
            <a:ext cx="8498160" cy="6048720"/>
          </a:xfrm>
          <a:prstGeom prst="roundRect">
            <a:avLst>
              <a:gd name="adj" fmla="val 16310"/>
            </a:avLst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1" name="TextBox 9" descr=""/>
          <p:cNvPicPr/>
          <p:nvPr/>
        </p:nvPicPr>
        <p:blipFill>
          <a:blip r:embed="rId2"/>
          <a:stretch/>
        </p:blipFill>
        <p:spPr>
          <a:xfrm>
            <a:off x="895320" y="762120"/>
            <a:ext cx="4084560" cy="768240"/>
          </a:xfrm>
          <a:prstGeom prst="rect">
            <a:avLst/>
          </a:prstGeom>
          <a:ln w="0">
            <a:noFill/>
          </a:ln>
        </p:spPr>
      </p:pic>
      <p:pic>
        <p:nvPicPr>
          <p:cNvPr id="82" name="그림 8" descr=""/>
          <p:cNvPicPr/>
          <p:nvPr/>
        </p:nvPicPr>
        <p:blipFill>
          <a:blip r:embed="rId3"/>
          <a:stretch/>
        </p:blipFill>
        <p:spPr>
          <a:xfrm>
            <a:off x="7988400" y="665280"/>
            <a:ext cx="831600" cy="193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모서리가 둥근 직사각형 5"/>
          <p:cNvSpPr/>
          <p:nvPr/>
        </p:nvSpPr>
        <p:spPr>
          <a:xfrm>
            <a:off x="318960" y="404640"/>
            <a:ext cx="8498160" cy="6048720"/>
          </a:xfrm>
          <a:prstGeom prst="roundRect">
            <a:avLst>
              <a:gd name="adj" fmla="val 16310"/>
            </a:avLst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2" name="TextBox 9" descr=""/>
          <p:cNvPicPr/>
          <p:nvPr/>
        </p:nvPicPr>
        <p:blipFill>
          <a:blip r:embed="rId2"/>
          <a:stretch/>
        </p:blipFill>
        <p:spPr>
          <a:xfrm>
            <a:off x="895320" y="762120"/>
            <a:ext cx="4084560" cy="76824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8" descr=""/>
          <p:cNvPicPr/>
          <p:nvPr/>
        </p:nvPicPr>
        <p:blipFill>
          <a:blip r:embed="rId3"/>
          <a:stretch/>
        </p:blipFill>
        <p:spPr>
          <a:xfrm>
            <a:off x="7988400" y="665280"/>
            <a:ext cx="831600" cy="193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직선 연결선 6"/>
          <p:cNvSpPr/>
          <p:nvPr/>
        </p:nvSpPr>
        <p:spPr>
          <a:xfrm>
            <a:off x="-20520" y="1052640"/>
            <a:ext cx="2340000" cy="0"/>
          </a:xfrm>
          <a:prstGeom prst="line">
            <a:avLst/>
          </a:prstGeom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3" name="직선 연결선 7"/>
          <p:cNvSpPr/>
          <p:nvPr/>
        </p:nvSpPr>
        <p:spPr>
          <a:xfrm>
            <a:off x="2320920" y="1052640"/>
            <a:ext cx="2340000" cy="0"/>
          </a:xfrm>
          <a:prstGeom prst="line">
            <a:avLst/>
          </a:prstGeom>
          <a:ln w="7632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직선 연결선 8"/>
          <p:cNvSpPr/>
          <p:nvPr/>
        </p:nvSpPr>
        <p:spPr>
          <a:xfrm>
            <a:off x="4572000" y="1054080"/>
            <a:ext cx="2340000" cy="0"/>
          </a:xfrm>
          <a:prstGeom prst="line">
            <a:avLst/>
          </a:prstGeom>
          <a:ln w="7632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직선 연결선 9"/>
          <p:cNvSpPr/>
          <p:nvPr/>
        </p:nvSpPr>
        <p:spPr>
          <a:xfrm>
            <a:off x="6804000" y="1052640"/>
            <a:ext cx="2340000" cy="0"/>
          </a:xfrm>
          <a:prstGeom prst="line">
            <a:avLst/>
          </a:prstGeom>
          <a:ln w="7632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684360" y="620640"/>
            <a:ext cx="24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4"/>
          </p:nvPr>
        </p:nvSpPr>
        <p:spPr>
          <a:xfrm>
            <a:off x="8101080" y="6503760"/>
            <a:ext cx="8366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Page </a:t>
            </a:r>
            <a:fld id="{6F443FB1-3448-4867-9E49-1E65FBCF926C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6080" y="4906800"/>
            <a:ext cx="8229600" cy="13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맑은 고딕"/>
              </a:rPr>
              <a:t>Chapter 03 </a:t>
            </a:r>
            <a:r>
              <a:rPr b="1" lang="ko-KR" sz="4000" spc="-1" strike="noStrike">
                <a:solidFill>
                  <a:srgbClr val="ffffff"/>
                </a:solidFill>
                <a:latin typeface="맑은 고딕"/>
              </a:rPr>
              <a:t>이미지와 멀티미디어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7" name="제목 1"/>
          <p:cNvSpPr/>
          <p:nvPr/>
        </p:nvSpPr>
        <p:spPr>
          <a:xfrm>
            <a:off x="539640" y="1197000"/>
            <a:ext cx="82296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Chapter 03 </a:t>
            </a:r>
            <a:r>
              <a:rPr b="1" lang="ko-KR" sz="4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이미지와 멀티미디어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84320" y="1375920"/>
            <a:ext cx="878040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&lt;audio&gt;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태그의 속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47840" indent="-181080">
              <a:spcBef>
                <a:spcPts val="499"/>
              </a:spcBef>
              <a:spcAft>
                <a:spcPts val="400"/>
              </a:spcAft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104400"/>
            <a:ext cx="756108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오디오와 비디오 파일 재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684360" y="620640"/>
            <a:ext cx="475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굴림"/>
              </a:rPr>
              <a:t>4.1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굴림"/>
              </a:rPr>
              <a:t>오디오 파일 재생하기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굴림"/>
              </a:rPr>
              <a:t>- &lt;audio&gt;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49" name="그림 2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63979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84320" y="1196640"/>
            <a:ext cx="878040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&lt;video&gt;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태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47840" indent="-181080">
              <a:spcBef>
                <a:spcPts val="451"/>
              </a:spcBef>
              <a:spcAft>
                <a:spcPts val="400"/>
              </a:spcAft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비디오 파일을 삽입할 때 사용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447840" indent="-181080">
              <a:spcBef>
                <a:spcPts val="451"/>
              </a:spcBef>
              <a:spcAft>
                <a:spcPts val="400"/>
              </a:spcAft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&lt;source&gt;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태그로 확장자에 따른 파일의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type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을 지정해야 함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0560" y="104400"/>
            <a:ext cx="756108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오디오와 비디오 파일 재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684360" y="620640"/>
            <a:ext cx="475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굴림"/>
              </a:rPr>
              <a:t>4.2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굴림"/>
              </a:rPr>
              <a:t>비디오 파일 재생하기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굴림"/>
              </a:rPr>
              <a:t>-&lt;video&gt;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53" name="그림 2" descr=""/>
          <p:cNvPicPr/>
          <p:nvPr/>
        </p:nvPicPr>
        <p:blipFill>
          <a:blip r:embed="rId1"/>
          <a:stretch/>
        </p:blipFill>
        <p:spPr>
          <a:xfrm>
            <a:off x="434880" y="2565360"/>
            <a:ext cx="8278920" cy="4092480"/>
          </a:xfrm>
          <a:prstGeom prst="rect">
            <a:avLst/>
          </a:prstGeom>
          <a:ln w="0">
            <a:noFill/>
          </a:ln>
        </p:spPr>
      </p:pic>
      <p:pic>
        <p:nvPicPr>
          <p:cNvPr id="254" name="그림 4" descr=""/>
          <p:cNvPicPr/>
          <p:nvPr/>
        </p:nvPicPr>
        <p:blipFill>
          <a:blip r:embed="rId2"/>
          <a:stretch/>
        </p:blipFill>
        <p:spPr>
          <a:xfrm>
            <a:off x="5543640" y="4802040"/>
            <a:ext cx="30589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84320" y="1375920"/>
            <a:ext cx="878040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&lt;video&gt;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태그의 속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560" y="104400"/>
            <a:ext cx="756108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오디오와 비디오 파일 재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684360" y="620640"/>
            <a:ext cx="475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굴림"/>
              </a:rPr>
              <a:t>4.2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굴림"/>
              </a:rPr>
              <a:t>비디오 파일 재생하기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굴림"/>
              </a:rPr>
              <a:t>-&lt;video&gt;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58" name="그림 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58546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84320" y="1375920"/>
            <a:ext cx="864216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6760" indent="-26676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0560" y="104400"/>
            <a:ext cx="756108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이미지 태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684360" y="620640"/>
            <a:ext cx="475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굴림"/>
              </a:rPr>
              <a:t>1.1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굴림"/>
              </a:rPr>
              <a:t>이미지 삽입하기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굴림"/>
              </a:rPr>
              <a:t>- &lt;img&gt;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11" name="그림 1" descr=""/>
          <p:cNvPicPr/>
          <p:nvPr/>
        </p:nvPicPr>
        <p:blipFill>
          <a:blip r:embed="rId1"/>
          <a:stretch/>
        </p:blipFill>
        <p:spPr>
          <a:xfrm>
            <a:off x="441360" y="1413000"/>
            <a:ext cx="8234280" cy="5002200"/>
          </a:xfrm>
          <a:prstGeom prst="rect">
            <a:avLst/>
          </a:prstGeom>
          <a:ln w="0">
            <a:noFill/>
          </a:ln>
        </p:spPr>
      </p:pic>
      <p:pic>
        <p:nvPicPr>
          <p:cNvPr id="212" name="그림 2" descr=""/>
          <p:cNvPicPr/>
          <p:nvPr/>
        </p:nvPicPr>
        <p:blipFill>
          <a:blip r:embed="rId2"/>
          <a:stretch/>
        </p:blipFill>
        <p:spPr>
          <a:xfrm>
            <a:off x="4572000" y="2060640"/>
            <a:ext cx="39592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84320" y="1375920"/>
            <a:ext cx="864216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웹에서 사용할 수 있는 이미지 파일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6760" indent="-26676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104400"/>
            <a:ext cx="756108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이미지 태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684360" y="620640"/>
            <a:ext cx="475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굴림"/>
              </a:rPr>
              <a:t>1.1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굴림"/>
              </a:rPr>
              <a:t>이미지 삽입하기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굴림"/>
              </a:rPr>
              <a:t>- &lt;img&gt;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16" name="그림 4" descr=""/>
          <p:cNvPicPr/>
          <p:nvPr/>
        </p:nvPicPr>
        <p:blipFill>
          <a:blip r:embed="rId1"/>
          <a:stretch/>
        </p:blipFill>
        <p:spPr>
          <a:xfrm>
            <a:off x="619200" y="2205000"/>
            <a:ext cx="777240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84320" y="1375920"/>
            <a:ext cx="864216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6760" indent="-26676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104400"/>
            <a:ext cx="756108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이미지 태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684360" y="620640"/>
            <a:ext cx="475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굴림"/>
              </a:rPr>
              <a:t>1.2 &lt;img&gt;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굴림"/>
              </a:rPr>
              <a:t>태그의 속성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20" name="그림 4" descr=""/>
          <p:cNvPicPr/>
          <p:nvPr/>
        </p:nvPicPr>
        <p:blipFill>
          <a:blip r:embed="rId1"/>
          <a:stretch/>
        </p:blipFill>
        <p:spPr>
          <a:xfrm>
            <a:off x="471600" y="1434960"/>
            <a:ext cx="8204040" cy="4964400"/>
          </a:xfrm>
          <a:prstGeom prst="rect">
            <a:avLst/>
          </a:prstGeom>
          <a:ln w="0">
            <a:noFill/>
          </a:ln>
        </p:spPr>
      </p:pic>
      <p:pic>
        <p:nvPicPr>
          <p:cNvPr id="221" name="그림 5" descr=""/>
          <p:cNvPicPr/>
          <p:nvPr/>
        </p:nvPicPr>
        <p:blipFill>
          <a:blip r:embed="rId2"/>
          <a:stretch/>
        </p:blipFill>
        <p:spPr>
          <a:xfrm>
            <a:off x="4500720" y="2133720"/>
            <a:ext cx="395892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84320" y="1375920"/>
            <a:ext cx="864216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&lt;img&gt;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태그의 속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6760" indent="-26676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560" y="104400"/>
            <a:ext cx="756108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이미지 태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684360" y="620640"/>
            <a:ext cx="475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굴림"/>
              </a:rPr>
              <a:t>1.2 &lt;img&gt;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굴림"/>
              </a:rPr>
              <a:t>태그의 속성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25" name="그림 1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72295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84320" y="1375920"/>
            <a:ext cx="864216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절대 경로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47840" indent="-181080">
              <a:spcBef>
                <a:spcPts val="451"/>
              </a:spcBef>
              <a:spcAft>
                <a:spcPts val="400"/>
              </a:spcAft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http://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로 시작하는 주소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447840" indent="-181080">
              <a:spcBef>
                <a:spcPts val="451"/>
              </a:spcBef>
              <a:spcAft>
                <a:spcPts val="400"/>
              </a:spcAft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인터넷상에 하나밖에 없는 유일무이한 고유한 경로를 의미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66760" indent="-266760">
              <a:lnSpc>
                <a:spcPct val="15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560" y="104400"/>
            <a:ext cx="756108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2. URL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과 경로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684360" y="620640"/>
            <a:ext cx="475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굴림"/>
              </a:rPr>
              <a:t>2.1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굴림"/>
              </a:rPr>
              <a:t>절대 경로로 나타내기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29" name="그림 2" descr=""/>
          <p:cNvPicPr/>
          <p:nvPr/>
        </p:nvPicPr>
        <p:blipFill>
          <a:blip r:embed="rId2"/>
          <a:stretch/>
        </p:blipFill>
        <p:spPr>
          <a:xfrm>
            <a:off x="365040" y="2852640"/>
            <a:ext cx="8280360" cy="2492640"/>
          </a:xfrm>
          <a:prstGeom prst="rect">
            <a:avLst/>
          </a:prstGeom>
          <a:ln w="0">
            <a:noFill/>
          </a:ln>
        </p:spPr>
      </p:pic>
      <p:pic>
        <p:nvPicPr>
          <p:cNvPr id="230" name="그림 4" descr=""/>
          <p:cNvPicPr/>
          <p:nvPr/>
        </p:nvPicPr>
        <p:blipFill>
          <a:blip r:embed="rId3"/>
          <a:stretch/>
        </p:blipFill>
        <p:spPr>
          <a:xfrm>
            <a:off x="5324400" y="3440160"/>
            <a:ext cx="32400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84320" y="1375920"/>
            <a:ext cx="878040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상대 경로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47840" indent="-181080">
              <a:spcBef>
                <a:spcPts val="451"/>
              </a:spcBef>
              <a:spcAft>
                <a:spcPts val="400"/>
              </a:spcAft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현재 폴더의 위치를 기준으로 대상 파일이나 폴더의 위치를 지정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447840" indent="-181080">
              <a:spcBef>
                <a:spcPts val="451"/>
              </a:spcBef>
              <a:spcAft>
                <a:spcPts val="400"/>
              </a:spcAft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절대 경로보다 서버의 폴더 구조나 도메인 변경 및 웹 페이지 제작∙수정에 편리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447840" indent="-181080">
              <a:spcBef>
                <a:spcPts val="451"/>
              </a:spcBef>
              <a:spcAft>
                <a:spcPts val="400"/>
              </a:spcAft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일반적으로 상대 경로를 더 많이 사용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66760" indent="-266760">
              <a:lnSpc>
                <a:spcPct val="15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0560" y="104400"/>
            <a:ext cx="756108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2. URL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과 경로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684360" y="620640"/>
            <a:ext cx="475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굴림"/>
              </a:rPr>
              <a:t>2.2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굴림"/>
              </a:rPr>
              <a:t>상대 경로로 나타내기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34" name="그림 1" descr=""/>
          <p:cNvPicPr/>
          <p:nvPr/>
        </p:nvPicPr>
        <p:blipFill>
          <a:blip r:embed="rId2"/>
          <a:stretch/>
        </p:blipFill>
        <p:spPr>
          <a:xfrm>
            <a:off x="434880" y="3284640"/>
            <a:ext cx="8278920" cy="2543040"/>
          </a:xfrm>
          <a:prstGeom prst="rect">
            <a:avLst/>
          </a:prstGeom>
          <a:ln w="0">
            <a:noFill/>
          </a:ln>
        </p:spPr>
      </p:pic>
      <p:pic>
        <p:nvPicPr>
          <p:cNvPr id="235" name="그림 5" descr=""/>
          <p:cNvPicPr/>
          <p:nvPr/>
        </p:nvPicPr>
        <p:blipFill>
          <a:blip r:embed="rId3"/>
          <a:stretch/>
        </p:blipFill>
        <p:spPr>
          <a:xfrm>
            <a:off x="5359320" y="3925800"/>
            <a:ext cx="324000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184320" y="1375920"/>
            <a:ext cx="878040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&lt;embed&gt;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태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47840" indent="-181080">
              <a:spcBef>
                <a:spcPts val="451"/>
              </a:spcBef>
              <a:spcAft>
                <a:spcPts val="400"/>
              </a:spcAft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외부 파일을 재생하기 위해 사용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104400"/>
            <a:ext cx="756108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외부 파일 재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TextBox 4"/>
          <p:cNvSpPr/>
          <p:nvPr/>
        </p:nvSpPr>
        <p:spPr>
          <a:xfrm>
            <a:off x="684360" y="620640"/>
            <a:ext cx="475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굴림"/>
              </a:rPr>
              <a:t>3.1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굴림"/>
              </a:rPr>
              <a:t>외부 파일 재생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39" name="그림 2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8278920" cy="3781440"/>
          </a:xfrm>
          <a:prstGeom prst="rect">
            <a:avLst/>
          </a:prstGeom>
          <a:ln w="0">
            <a:noFill/>
          </a:ln>
        </p:spPr>
      </p:pic>
      <p:pic>
        <p:nvPicPr>
          <p:cNvPr id="240" name="그림 4" descr=""/>
          <p:cNvPicPr/>
          <p:nvPr/>
        </p:nvPicPr>
        <p:blipFill>
          <a:blip r:embed="rId2"/>
          <a:stretch/>
        </p:blipFill>
        <p:spPr>
          <a:xfrm>
            <a:off x="4595760" y="3213000"/>
            <a:ext cx="395928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84320" y="1375920"/>
            <a:ext cx="878040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&lt;audio&gt;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태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447840" indent="-181080">
              <a:spcBef>
                <a:spcPts val="451"/>
              </a:spcBef>
              <a:spcAft>
                <a:spcPts val="400"/>
              </a:spcAft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MP3, WAV, Ogg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등의 오디오 파일을 재생할 때 사용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104400"/>
            <a:ext cx="756108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오디오와 비디오 파일 재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TextBox 4"/>
          <p:cNvSpPr/>
          <p:nvPr/>
        </p:nvSpPr>
        <p:spPr>
          <a:xfrm>
            <a:off x="684360" y="620640"/>
            <a:ext cx="475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굴림"/>
              </a:rPr>
              <a:t>4.1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굴림"/>
              </a:rPr>
              <a:t>오디오 파일 재생하기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굴림"/>
              </a:rPr>
              <a:t>- &lt;audio&gt;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44" name="그림 1" descr=""/>
          <p:cNvPicPr/>
          <p:nvPr/>
        </p:nvPicPr>
        <p:blipFill>
          <a:blip r:embed="rId1"/>
          <a:stretch/>
        </p:blipFill>
        <p:spPr>
          <a:xfrm>
            <a:off x="468360" y="2502000"/>
            <a:ext cx="8280360" cy="3768480"/>
          </a:xfrm>
          <a:prstGeom prst="rect">
            <a:avLst/>
          </a:prstGeom>
          <a:ln w="0">
            <a:noFill/>
          </a:ln>
        </p:spPr>
      </p:pic>
      <p:pic>
        <p:nvPicPr>
          <p:cNvPr id="245" name="그림 5" descr=""/>
          <p:cNvPicPr/>
          <p:nvPr/>
        </p:nvPicPr>
        <p:blipFill>
          <a:blip r:embed="rId2"/>
          <a:stretch/>
        </p:blipFill>
        <p:spPr>
          <a:xfrm>
            <a:off x="4500720" y="3327480"/>
            <a:ext cx="39589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10:23:22Z</dcterms:created>
  <dc:creator>김이화</dc:creator>
  <dc:description/>
  <dc:language>en-US</dc:language>
  <cp:lastModifiedBy>Windows 사용자</cp:lastModifiedBy>
  <dcterms:modified xsi:type="dcterms:W3CDTF">2018-03-26T07:59:42Z</dcterms:modified>
  <cp:revision>431</cp:revision>
  <dc:subject/>
  <dc:title>PowerPoint 프레젠테이션</dc:title>
</cp:coreProperties>
</file>